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6.jpeg" ContentType="image/jpeg"/>
  <Override PartName="/ppt/media/image15.jpeg" ContentType="image/jpeg"/>
  <Override PartName="/ppt/media/image9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CB2-6685-48A8-8D78-113DD0DD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5D2-CE21-4BF7-8F9F-2177E01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754-471B-4E03-8BA7-7F020478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133-213C-4602-B5FC-36712A4B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3C4F-C9EB-49EE-B6D1-5F472D9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167-3232-420A-B6B3-93A4A22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D60-50A1-454C-AB60-6EFCA1A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A8ED-BF0C-4602-B939-4DFBB4D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9FCA-3BDA-4CF9-83B6-5FC5B70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47C-BDCC-47A3-8678-C1EF00F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198A-12D8-4CD4-84CA-2C27A95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E52-A9E4-4042-9124-7A60117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27DE-3D84-4457-96A3-3256F67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D0FF-C6C8-48D2-9D2F-6AA98E0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D49-CA20-490A-884B-0A583CD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AD9-323D-41E5-92E8-A81B7B6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543F-8A77-4070-AF51-EBCB04D4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981CB-2D54-45A0-8384-3C127EF1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FDE72-B76F-48D8-9354-B1DDFE6A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9FCBD-F52E-4B93-A382-726B7AD1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330E8-A337-40A2-91A6-0B9862A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D3C78-8C6C-429C-AF1E-C983BAD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57C-64C1-460E-92C7-A66574E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D7BCD-9695-45E4-A881-7CCD535B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141E5-FF49-4686-B830-FA5F7FD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08C60-851F-47B4-AEC9-8039B2A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E8DFD-B114-4D2B-AE49-0B65598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64EFC-168F-4FBC-8F5C-DB897CB7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FA7DD-6DE9-48FF-B84E-FB6317E1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9E494-DBE8-44C3-97ED-2ACB59F6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C2D-A41C-40E7-B813-0F8A4429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529-F24F-4651-80F1-A1602B0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E91-9B86-426B-9B8D-9D4578E4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F3E-BB8E-4771-8008-2576333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54E-D127-425A-AAA6-2795609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8CD-0DB8-4B14-8506-5AFC0B6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526-91AD-4100-9B5B-E0327B3D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2962-9F48-4E49-98C8-FE13652E3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AACA-5E80-4C95-812B-7634E6D3B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Bermuda Solid"/>
              </a:rPr>
              <a:t>Psychological Disord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Bermuda Solid"/>
              </a:rPr>
              <a:t>An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at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time- it was believed that mental illness had a bodily cause- Somatoge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3320" y="28195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resis and Syphilis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505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atogenic could not explain disorders such as hysteria (now called conversion disord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4100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sorders are psychogenic: the origin is psychological, not phys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dical Perspectiv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ychological disorders are sicknesses and can be diagnosed, treated and c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o-Psycho-Social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umes biological, psychological and sociocultural factors combine to interact causing psychological dis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0752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b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athesis-Stress Mod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athesis meaning predisposition and stress meaning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ying Psychological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SM-IV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nostic Statistical Manual of Mental Disorders: the big book of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2687760" cy="3976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160" y="5492880"/>
            <a:ext cx="54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jor Classifi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Neurotic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Distressing but one can still function in society and act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Psychotic Disord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Person loses contact with reality, experiences distorted perce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773440" cy="317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4120" y="2819520"/>
            <a:ext cx="2527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harmful dysfunction” in which behavior is judged to be atypical, disturbing, maladaptive and unjustif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27672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bnormal, disturbing maladaptive and unjustifiable 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2880" y="441972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55627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2520" y="6095880"/>
            <a:ext cx="34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2880" y="5029200"/>
            <a:ext cx="25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flicted people were possessed by evil spiri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00760" y="2048040"/>
            <a:ext cx="37623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463920" cy="4014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or singing was often used to chase away spir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7040" y="3008160"/>
            <a:ext cx="314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phe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89680" y="4684680"/>
            <a:ext cx="367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a hole in the head of the afflicted to let out the evil spi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reph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963880" cy="5288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67080" y="1371600"/>
            <a:ext cx="44323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heory was to make the body extremely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14840" cy="371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2430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Ment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1800’s, disturbed people were no longer thought of as madmen, but as mentally 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53200" y="2376360"/>
            <a:ext cx="2628720" cy="2971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09320" y="5999040"/>
            <a:ext cx="58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mean better trea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52578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first put in hosp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ental Hosp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nothing more than barbaric pr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5146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were chained and lock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6483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ospitals even charged admission for the public to see the “crazies”, just like a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368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pe Pi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nch doctor who was the first to take the chains off and declare that these people are sick and “a cure must be found!!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83160" y="228600"/>
            <a:ext cx="2190960" cy="2590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267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4:08:26Z</dcterms:created>
  <dc:creator>Preferred Customer</dc:creator>
  <dc:description/>
  <dc:language>en-US</dc:language>
  <cp:lastModifiedBy>admin</cp:lastModifiedBy>
  <dcterms:modified xsi:type="dcterms:W3CDTF">2008-04-11T15:27:40Z</dcterms:modified>
  <cp:revision>24</cp:revision>
  <dc:subject/>
  <dc:title>Psychological Disorders</dc:title>
</cp:coreProperties>
</file>